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1B4-4E5D-4E41-8407-A8B4BC02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924-0229-4934-8458-73EE49B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F96-6BF1-43D4-9470-D12E8789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720-4CDD-413E-A741-6AB07040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EEC4-BE79-4761-9154-176C2EC4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BEB6-B404-43B8-8928-354581D8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A417-89D1-4CD3-B747-2203D34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290F-23DF-4809-9C93-121B8E65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40B4-6735-4727-8DDC-E0EDD19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B6E3-115E-4D46-909E-70E0278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1E8-9C0F-4BB0-9D7C-90D3ABF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CEB-3006-427B-9B96-E453ECAE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75D7-6E1D-44A6-AF91-DE202D5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9A13-039E-4379-BB2C-62CB85EB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C1C9-09BD-4064-89AE-9416F064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3219-3A56-4D66-A3B6-D50C4E61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BA3-91B5-40E5-B2E7-4C9E2566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CD0A-320E-40C8-B568-BC325910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C59F-B72D-4AB4-AF4E-FDA07D39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6727D-058A-4733-8ACD-5A119C32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891D-4EF0-4D71-9C0E-34F3E8B6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6369C-05C2-4760-8608-A6A439C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0E3-D339-4406-950F-CA95E48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DF90-5558-49ED-9C15-B8777EDA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6B64-B98D-47CA-8656-03F8E3E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B502-D786-4E03-AB86-BDA0F701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CFEC-5CBC-4FDF-86A0-752643F7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6E1C-300D-4085-86E1-85A444E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8A9A-DECD-42B5-A110-3D604EF2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95CC-8147-4D69-B078-85E72CF0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C758-E795-4D37-BE28-EA784367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10403-EDAF-4FB3-9215-B31D69D9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18DFB-7BD6-47FC-B4D1-A0F76D2C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365-6F5E-429C-82F5-997A1E57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9927F-B7B8-437C-A567-733088F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087D-9569-43D5-9CF0-0798E97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7EC6-027D-498E-B264-FB986A41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6BC0-A5DD-484C-B24D-750DE44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60D87-7006-4782-93F1-3BC01D62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2019-CCAF-4079-86B4-4C841C3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CBEB-5196-46A9-B0E5-C8D1C0E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4D34-755E-4231-9C61-E830E5D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D6AD0-4E50-4BE7-AE10-6AFEED26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BA2EA-3DE7-47F8-B47F-7CB6A525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7FF-F2BE-4246-B961-745BA568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A881-AECE-4015-9339-BEE9521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7C02E-8EB1-4825-904A-1798531F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1323-1388-4FDB-9518-9FE70C2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2FCF7-9DEC-4D31-9575-4216B18F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86C1-0E34-469B-AEFC-EB0F7C8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64D32-657D-448A-AF51-EDA31E8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04B08-1227-488F-8B63-A9B81E7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A2DD7-52C6-45D4-AB5E-08CD3C2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B16C-7F43-411E-AD4D-249DFD0B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A2A4-A8BB-4D15-B755-A9C551EA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C54-28F9-4779-899A-6C3E735C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298CA-E32C-4A04-9743-68D26BC6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49D8F-3642-45A2-97DC-11A2AE5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3444-14F0-4778-BA94-2EB0A423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5604-2B57-4C87-9C86-7EA544E3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7F60-B8E5-44D3-9072-45450DB5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7D27-FFBD-4003-B17C-86BBC2DE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42E9-2029-467C-B1B1-A1AD5B8E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065C-293E-421F-8660-5B69D10E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F48BD-92E6-47B6-9AA8-2D3E3F4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201B2-C612-41F6-BBD0-8CA9A8D9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E3C-5814-4566-BE80-952D05D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D06C-76E7-4714-8D3F-77BFD797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FC29E-D95E-4A8D-AC1F-C4C819F8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4D6E-93A4-4491-96DD-DB9A3796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235BF-441B-4165-8DE3-5E809110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B17B6-A12C-4A45-B865-87054813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9332-D96A-4712-BD9E-3E25A9AD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436F-7FCA-4B61-ABC1-D8E9FD3A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99B20-896D-4C64-B633-F33A081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75CA3-ECE4-433A-B58B-5D7117D7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5B796-0513-48CB-BBF8-AC123411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9D7-91B7-43E1-A0AB-3EA09CD9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8F20C-C26A-4A27-8942-1D62EE1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210D8-0169-4850-9982-19B608F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DAE3-69D9-43DC-86B5-A6D8BAD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B1C6-B599-4ECF-B611-DF4CD5AF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C4C3D-3C88-4D89-B4A2-DD59F8290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921-8C75-44E5-8652-3968CB8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254D-E0AA-408C-BA4F-8CD10B7163E2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59BC-1509-41F5-B842-78C2ECD4C7D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5EA3-341A-43C3-B0D0-483A6044F1C7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44B-A23C-47EE-A44E-2583F78867BC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924-1A32-4B7D-9A86-16774D340EB3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B14-48AB-4C78-B4BD-3B3E1D637FFA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191-CF8B-414D-BDCD-028F052012D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D375-EE25-4A11-A80F-722A5E0B030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CA8-330D-4EAA-B58E-A9A4A8E79C6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38B5-B473-41E9-99ED-DBD4B372C63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D8E-2FAB-4324-9C65-DD7D8F0BA05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D269-309B-4344-A11A-672E4C7EC13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50F-9B09-4896-ABEE-13402A4C8D5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983A-7A36-4C0D-8C18-7FF8CC5D4C4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Vy&#353;et&#345;en&#237;_funkce_hypof&#253;zy" TargetMode="External"/><Relationship Id="rId2" Type="http://schemas.openxmlformats.org/officeDocument/2006/relationships/hyperlink" Target="http://www.symptomy.cz/diagnoza/kod?id=E22" TargetMode="External"/><Relationship Id="rId3" Type="http://schemas.openxmlformats.org/officeDocument/2006/relationships/hyperlink" Target="http://tcladin.cz/zdravi/diagnoza.php?hledat=E23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amneza.cz/vyhledavani?q=hyperfunkce%20nadledvin" TargetMode="External"/><Relationship Id="rId2" Type="http://schemas.openxmlformats.org/officeDocument/2006/relationships/hyperlink" Target="http://www.anamneza.cz/vyhledavani?q=hyperfunkce%20nadledvin" TargetMode="External"/><Relationship Id="rId3" Type="http://schemas.openxmlformats.org/officeDocument/2006/relationships/hyperlink" Target="http://www.anamneza.cz/Cushinguv-syndrom/nemoc/390" TargetMode="External"/><Relationship Id="rId4" Type="http://schemas.openxmlformats.org/officeDocument/2006/relationships/hyperlink" Target="http://www.wikiskripta.eu/index.php/Pubertas_praecox" TargetMode="External"/><Relationship Id="rId5" Type="http://schemas.openxmlformats.org/officeDocument/2006/relationships/hyperlink" Target="http://www.wikiskripta.eu/index.php/Addisonova_choroba" TargetMode="External"/><Relationship Id="rId6" Type="http://schemas.openxmlformats.org/officeDocument/2006/relationships/hyperlink" Target="http://tcladin.cz/zdravi/diagnoza.php?hledat=E275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truma_%28medic&#237;na%29" TargetMode="External"/><Relationship Id="rId2" Type="http://schemas.openxmlformats.org/officeDocument/2006/relationships/hyperlink" Target="http://www.wikiskripta.eu/index.php/Hypertyre&#243;za" TargetMode="External"/><Relationship Id="rId3" Type="http://schemas.openxmlformats.org/officeDocument/2006/relationships/hyperlink" Target="http://www.wikiskripta.eu/index.php/Gravesova-Basedowova_nemoc" TargetMode="External"/><Relationship Id="rId4" Type="http://schemas.openxmlformats.org/officeDocument/2006/relationships/hyperlink" Target="http://www.anamneza.cz/Snizena-cinnost-stitne-zlazy-Hypofunkce-stitne-zlazy/nemoc/4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77320" cy="26085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oruchy hormonální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20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8.3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</a:t>
            </a:r>
            <a:r>
              <a:rPr b="1" lang="cs-CZ" sz="16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9 zahrnuje pojmy: hormonální hyperfunkce, hypofunkce, poruchy hypofýzy, nadledvin, štítné žlázy, příštítných tělísek, poruchy sekrece slinivky břišníPrezentace je zakončena sérií otázek k opakování.</a:t>
            </a:r>
            <a:endParaRPr b="1" lang="en-US" sz="16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…? + popište příznak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Diabetes mellitus 1. typ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Gigantism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Nanism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Diabetes insipid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ddisonova chorob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trum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Gravesova-Basedowova chorob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Myxedé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ypoparatyreóz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oruchy hormonální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ormony jsou sekrety žláz s vnitřní sekrecí, jsou vyplavovány přímo do krve, zajišťují hormonální regulaci organismu, stálost vnitřního prostředí, ovlivňují metabolismu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sou-li poruch žláz s vnitřní sekrecí spojeny se zvýšenou sekrecí hormonů, vznikají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hyperfunkční syndrom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, při snížení hormonální činnosti nastávají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hypofunkční syndrom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hypofý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hypotalamo-hypofyzární systé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ormony: STH (růstový), ACTH (adrenokortikotropní), TSH (tyreotropní), FSH (hormon stimulující folikuly, LH (luteinizační), prolaktin, ADH (antidiuretický), oxytocin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Vy%C5%A1et%C5%99en%C3%AD_funkce_hypof%C3%BDz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yperfunkční hypofyzární syndromy 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(hyperpituitaarismu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Bývají vyvolány hormonálně aktivním nádorem adenohypofýz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Zvýšený výdej obvykle jen jednoho typu hormon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Gigantismu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Cushingova chorob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ypofunkční hypofyzární syndromy (hypopituitarismus)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tcladin.cz/zdravi/diagnoza.php?hledat=E23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Simmondsova nemo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Nanismu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Diabetes insipidu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nadledvin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Nadledvin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yperfunkční sy kůry nadledv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ushingův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anamneza.cz/Cushinguv-syndrom/nemoc/390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nnův s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drenogenitální s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seudohermafroditism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ředčasná puberta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Pubertas_praecox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ofunkční sy kůry nadledv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ddisonova choroba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Addisonova_choroba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kutní nedostatečnost kůry nadledvi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yperfunkční sy dřeně nadledv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štítné žlá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Strum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yperfunkční sy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hypertyreóza, tyreotoxikóz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Gravesova-Bsedowova nemoc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Gravesova-Basedowova_nemoc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ofunkční sy (hypotyreóza)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anamneza.cz/Snizena-cinnost-stitne-zlazy-Hypofunkce-stitne-zlazy/nemoc/4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Kretenismu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yxedém  =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nahromadění hlenových látek v podkožním vazivu způsobený sníženou činností štítné žláz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obrazky.cz/?q=myxoedema#utm_source=search.seznam.cz&amp;utm_medium=link&amp;utm_term=myxoedema&amp;utm_content=list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příštítných tělísek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erparatyreóza </a:t>
            </a: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http://www.priznaky-projevy.cz/interna/endokrinologie-metabolismus/hyperparathyreoza-zvysena-funkce-pristitnych-telisek-priznaky-projevy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oparatyreóza </a:t>
            </a: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http://zdravotnictvi.studentske.cz/2008/08/hypoparathyreza-nedostaten-tvorba.htm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ypokalémie, hyperfosfatémie, tetan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sekrece slinivky břiš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iabetes mellitus 1. typ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www.lekari-online.cz/endokrinologie/zakroky/diabetes-mellitus-i-typ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37:28Z</dcterms:modified>
  <cp:revision>73</cp:revision>
  <dc:subject/>
  <dc:title>Snímek 1</dc:title>
</cp:coreProperties>
</file>